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808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2701-BC76-490F-BE3D-FDAA33CAC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0283-11B8-4EBB-ACAC-A3D315E1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8122-3FCC-4DDD-A454-91D028DDC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546-7AA5-4A66-ADF2-A29D3E6C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E661-D30D-4328-9D94-2EC514DFA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815320"/>
            <a:ext cx="29718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E30B-66E4-45D1-BC6B-CFCB8263D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80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856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05E2-1D16-4D9B-AEAD-424C5056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59C-0945-4E37-B04C-8F329938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E050-6A70-464F-977B-41764F74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56A-736D-4B89-961F-CCFBF7CB9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2FC-C563-4C6D-9537-71C47C0D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E631-0AEF-4455-B2FC-E0FC46BF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C0C-B0A9-48A8-8119-D7EE5402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2AA-E7AC-4AD5-8547-C97D325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052-8A8E-46C9-B883-F1178E61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FD3-377D-427F-8D86-29C2494F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441-0877-4E4F-B0C4-0B2EA079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3A4-44FD-43AD-AB65-0ADF7A98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7C0-F880-4206-978E-BB3D0F16BBF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8/8e/Triangle_with_notations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Inverse Kinematic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5B2F-1C63-488C-9746-4EDD8A7075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ne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143000"/>
            <a:ext cx="84582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rward (direct)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ven: The values of the joint variab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d: The position of the orientation of the end eff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nverse Kinema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: The position of the orientation of the end effe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 : The values of the joint variab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F9D9-5BDB-4FB5-ACD4-0A805CCFAF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RR Manipul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: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d: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θ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9E96-1EDB-4F7C-B4A4-A721ABFD34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1066680" y="2971800"/>
                <a:ext cx="182880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2438280" y="3048120"/>
            <a:ext cx="5829480" cy="32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aw of cosi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4958-D9FF-447E-B369-A22984E4D2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Image:Triangle with notation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905120"/>
            <a:ext cx="6496200" cy="315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^2 = a^2 + b^2 - 2ab\cos(\gamma) , \,"/>
          <p:cNvPicPr/>
          <p:nvPr/>
        </p:nvPicPr>
        <p:blipFill>
          <a:blip r:embed="rId3"/>
          <a:stretch/>
        </p:blipFill>
        <p:spPr>
          <a:xfrm>
            <a:off x="762120" y="5334120"/>
            <a:ext cx="4114800" cy="47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b^2 = c^2 + a^2 - 2ca\cos(\beta) , \,"/>
          <p:cNvPicPr/>
          <p:nvPr/>
        </p:nvPicPr>
        <p:blipFill>
          <a:blip r:embed="rId4"/>
          <a:stretch/>
        </p:blipFill>
        <p:spPr>
          <a:xfrm>
            <a:off x="990720" y="3200400"/>
            <a:ext cx="3657600" cy="390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a^2 = b^2 + c^2 - 2bc\cos(\alpha) . \,"/>
          <p:cNvPicPr/>
          <p:nvPr/>
        </p:nvPicPr>
        <p:blipFill>
          <a:blip r:embed="rId5"/>
          <a:stretch/>
        </p:blipFill>
        <p:spPr>
          <a:xfrm>
            <a:off x="990720" y="2666880"/>
            <a:ext cx="3276360" cy="3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9BF7-CF8B-4187-AEEF-9B5858EE0B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3676680" y="380880"/>
            <a:ext cx="5467320" cy="483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4038480" cy="70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1279440" cy="436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4"/>
          <a:stretch/>
        </p:blipFill>
        <p:spPr>
          <a:xfrm>
            <a:off x="762120" y="2362320"/>
            <a:ext cx="1166760" cy="422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Object 11"/>
              <p:cNvSpPr txBox="1"/>
              <p:nvPr/>
            </p:nvSpPr>
            <p:spPr>
              <a:xfrm>
                <a:off x="380880" y="3429000"/>
                <a:ext cx="3614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9T23:28:20Z</dcterms:created>
  <dc:creator>A</dc:creator>
  <dc:description/>
  <dc:language>en-US</dc:language>
  <cp:lastModifiedBy>Ayssam Elkady</cp:lastModifiedBy>
  <dcterms:modified xsi:type="dcterms:W3CDTF">2008-02-28T09:39:29Z</dcterms:modified>
  <cp:revision>73</cp:revision>
  <dc:subject/>
  <dc:title>Robot Kinematics II </dc:title>
</cp:coreProperties>
</file>